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AE4B-5FFA-4A86-AAB5-A1E3BAF11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CB29-346F-4008-82B9-18053FDA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3004-2D7D-436C-88FA-0A2698DB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AC0A-9F7E-46BF-BE1D-FBCCECD31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7326-DECA-4062-9E1A-99F49D6F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630C-BFC5-413E-B4E9-DFCF9611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8BB9-B25F-4CEC-BEF3-F20079AC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AB0A-1D06-4924-B9DC-971B21F3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D3D7-5DE5-4E0E-BC82-52C07853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8D4B-5F96-46A8-A4BD-162ADA25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92DC-0DAA-4571-8F7D-0547F710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66A5-9F43-4C88-A6D1-2DF83C00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9E1EC6-89A8-4779-A796-5EAC83E011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365077-E22E-4F60-AD31-5A18C3A93F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acteristics of Exceptional Individu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D226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all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rse 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ain factual knowledge (terminology, classification, methods, trend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arning fundamental principles, generalizations, or theor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arning to apply course material (to improve thinking, problem solving, and decisions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ing specific skills, competencies, and points of view needed by professionals in the field most closely related to this cour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arning how to find and use resources for answering questions or solving probl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rs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ectur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se Stud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ap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tion 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tion 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view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ass Particip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cla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k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es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d-ter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 Particip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class—workshop style, lots of discussion you must be prepared and you must particip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ki—this technology will be a central communication tool in the class.  You will be expected to post your work on the site.  Almost all of your assignments will be turned in using Wik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c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 top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s of scientific thou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tional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story of Special 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ducting Naturalistic Inqui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stemic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 Case Study Tal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 PLEP write 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p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#1—a literature review of current and historical perspectives of disa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#2—written with the knowledge from the interviews conducted by your classm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views—five interviews conduct to assist your classmates with their pap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d-Te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say based.  Comprehens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22:00:51Z</dcterms:created>
  <dc:creator>benedictine college</dc:creator>
  <dc:description/>
  <dc:language>en-US</dc:language>
  <cp:lastModifiedBy>benedictine college</cp:lastModifiedBy>
  <dcterms:modified xsi:type="dcterms:W3CDTF">2009-08-26T16:22:04Z</dcterms:modified>
  <cp:revision>1</cp:revision>
  <dc:subject/>
  <dc:title>Characteristics of Exceptional Individuals</dc:title>
</cp:coreProperties>
</file>